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6B3-849E-4B38-90E2-5507D13B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26C-53CB-4A75-B7F4-A0381BC9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73F-A7C2-4489-BDCE-9C62E22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04B-A0CF-4546-AF19-160969AC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0D4-56DF-4F14-B8C8-B218A86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62A-670B-4209-A715-DC53442D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3985-42C4-4659-A666-5185E609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FF09-E2AE-446F-BAF8-23215A3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79E-D478-446C-97EE-B25D19EF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BDCA-DE72-4D5B-A9E8-1DD5219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6AE7-4E1C-48D4-9E4C-628EC70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E65-FC6A-4599-9934-3F92C927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4E09-51A4-47D1-91B3-AB25448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4C14-AC3C-4A8A-B2E0-3D1B3FF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3489-95B6-4EA8-81DD-3E93C69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233-A8B3-4E4B-BDF4-097CE5CB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30D0-5ED2-4461-8500-36DDA5B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406-F5CF-4FD9-A7AD-EB332B5C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14C-E582-466F-918F-E7578D0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3C1-400C-4619-964F-9055D062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86B-B3C6-4417-8078-BCCADFFE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08B-091B-4867-B982-19F6F309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845-EAF5-4084-A527-3FE0AD7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B93-FD23-4C58-AD8C-BD23473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155B-41A2-4685-A253-0EDC4BDA73C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B276-E2F2-4A75-8B3F-4E9A56965725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health.com/sleepwalking/article_em.htm#Sleepwalking%20Overview" TargetMode="External"/><Relationship Id="rId3" Type="http://schemas.openxmlformats.org/officeDocument/2006/relationships/hyperlink" Target="http://www.cartoonstock.com/lowres/epa1534l.jpg" TargetMode="External"/><Relationship Id="rId4" Type="http://schemas.openxmlformats.org/officeDocument/2006/relationships/hyperlink" Target="http://drawingtheboard.blogspot.com/2007/08/sleep-walking.html" TargetMode="External"/><Relationship Id="rId5" Type="http://schemas.openxmlformats.org/officeDocument/2006/relationships/hyperlink" Target="http://drawingtheboard.blogspot.com/2007/08/sleep-walking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leep Walking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nn Yi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” while “Sleep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 out activities such as dressing, eating, or talking without any conscious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dangerous, since the person has no consciousness. The person may come across dangerous objects without realiz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 (cont’d)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er’s eyes are usually half 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Children more often than grow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19720" y="3141720"/>
            <a:ext cx="3886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hen? And Why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during deep sleep (III and 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inheri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, stress, fever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length and depth of deep sleep may cause sleep walking (reason why children tend to sleep walk more of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stimulation before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room of obstacles (in case of sleep wal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 doors/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eme cases of sleep walking can result in an unconscious drive in your 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case of murder, where the victim was found not guilty because he seemed to have been sleep walking through his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en.wikipedia.org/wiki/Sleepwal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http://www.emedicinehealth.com/sleepwalking/article_em.htm#Sleepwalking%20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4"/>
              </a:rPr>
              <a:t>PIC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5"/>
              </a:rPr>
              <a:t>http://www.cartoonstock.com/lowres/epa1534l.j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drawingtheboard.blogspot.com/2007/08/sleep-walking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sleepsa.com/walkingeng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 Yi</cp:lastModifiedBy>
  <dcterms:modified xsi:type="dcterms:W3CDTF">2008-10-07T11:13:57Z</dcterms:modified>
  <cp:revision>1</cp:revision>
  <dc:subject/>
  <dc:title>Sleep Walking Ann Yi</dc:title>
</cp:coreProperties>
</file>